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5981-C99D-4F42-9451-6EB92EAF7A9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1435-A197-4DFE-A47B-74D256FBB4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28E-897D-4D27-8276-C5C46FA9B17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B64-AF7F-44B6-B04D-574B5A11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5B6-22E4-463F-8C03-0EA8478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2A3-E505-4A78-BFD6-73264D8C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268-A45F-49C8-8B1C-F074248A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B7B-C40C-4C14-AEB2-260E55D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7AD-71C3-46A9-BB39-15B39C2C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9B0-365D-4B59-AB90-457EF73E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BBC-30FB-4F3B-9C14-3745C8D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186-C667-43EB-B765-C4582E4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1D2-1A86-4F9E-95F3-BF43574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3E8-F24A-4445-91E4-B3A0FE4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B73-D557-4B12-A7CA-18E9E2F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187-4EE9-4739-B168-EA479124B5C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oop-paraguas-300px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61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Comic Sans MS"/>
                <a:ea typeface="Calibri"/>
              </a:rPr>
              <a:t>Expositor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Comic Sans MS"/>
                <a:ea typeface="Calibri"/>
              </a:rPr>
              <a:t>Dra. Graciela Paris - Dra. Liliana Sosisk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Comic Sans MS"/>
                <a:ea typeface="Calibri"/>
              </a:rPr>
              <a:t>CABA- 30 de agosto de 201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252360" y="243648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4800" spc="-1" strike="noStrike">
                <a:solidFill>
                  <a:srgbClr val="808000"/>
                </a:solidFill>
                <a:latin typeface="Comic Sans MS"/>
              </a:rPr>
              <a:t>“</a:t>
            </a:r>
            <a:r>
              <a:rPr b="1" lang="es-MX" sz="4800" spc="-1" strike="noStrike">
                <a:solidFill>
                  <a:srgbClr val="808000"/>
                </a:solidFill>
                <a:latin typeface="Comic Sans MS"/>
              </a:rPr>
              <a:t>El aprendizaje cooperativ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ogohome_bicentenario"/>
          <p:cNvPicPr/>
          <p:nvPr/>
        </p:nvPicPr>
        <p:blipFill>
          <a:blip r:embed="rId2"/>
          <a:stretch/>
        </p:blipFill>
        <p:spPr>
          <a:xfrm>
            <a:off x="0" y="0"/>
            <a:ext cx="914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tivos de la educación 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ntre otr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… ”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ograr la  socialización y el trabajo cooperativ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rmitiendo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que cada persona potencie su dimensión social, comprometiéndose con sus semejantes en la búsqueda del bien com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socializacion"/>
          <p:cNvPicPr/>
          <p:nvPr/>
        </p:nvPicPr>
        <p:blipFill>
          <a:blip r:embed="rId1"/>
          <a:stretch/>
        </p:blipFill>
        <p:spPr>
          <a:xfrm>
            <a:off x="6443640" y="4984920"/>
            <a:ext cx="2521080" cy="174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0"/>
          <p:cNvPicPr/>
          <p:nvPr/>
        </p:nvPicPr>
        <p:blipFill>
          <a:blip r:embed="rId2"/>
          <a:stretch/>
        </p:blipFill>
        <p:spPr>
          <a:xfrm>
            <a:off x="179280" y="4869000"/>
            <a:ext cx="266724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Aprendizaje Coope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ropuesta pedagógica que sitúa la participación de los alumnos y su interrelación en el aula en el centro del sistema edu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aprendiz-cooperativo"/>
          <p:cNvPicPr/>
          <p:nvPr/>
        </p:nvPicPr>
        <p:blipFill>
          <a:blip r:embed="rId1"/>
          <a:stretch/>
        </p:blipFill>
        <p:spPr>
          <a:xfrm>
            <a:off x="3059280" y="4321080"/>
            <a:ext cx="3600360" cy="25369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4284720" y="1341360"/>
            <a:ext cx="574560" cy="72072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ejos útiles para el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Buscar actividade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que permitan desde lo cotidiano y de las experiencias constructivas llegar al conocimiento específico de la materia en cuest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El proceso el aprendizaje es mutu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Darle oportunidad al alumno para  que enseñ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No menospreciar lo logrado en cada clase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aunque parezca que ”Vamos Atrasados”. ¡Cada clase es única!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Relacionar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siempre la actividad desarrollada con el conocimiento inherente a la misma, y éste a su vez con su aplicabilida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Estimular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la investigación a través de casos y preguntas. Generar replant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</a:rPr>
              <a:t>Los estudiantes puede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expresar, compartir, discutir y confrontar sus pre-conceptos, sus investigaciones y sus du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omic Sans MS"/>
              </a:rPr>
              <a:t>Ideas prácticas para promover el aprendizaje activo y cooperativo </a:t>
            </a:r>
            <a:br>
              <a:rPr sz="4000"/>
            </a:b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omic Sans MS"/>
              </a:rPr>
              <a:t>27 maneras prácticas para mejorar la instrucción</a:t>
            </a:r>
            <a:br>
              <a:rPr sz="4000"/>
            </a:br>
            <a:r>
              <a:rPr b="1" i="1" lang="es-AR" sz="4000" spc="-1" strike="noStrike">
                <a:solidFill>
                  <a:srgbClr val="000000"/>
                </a:solidFill>
                <a:latin typeface="Comic Sans MS"/>
              </a:rPr>
              <a:t>por:</a:t>
            </a:r>
            <a:br>
              <a:rPr sz="4000"/>
            </a:br>
            <a:r>
              <a:rPr b="1" i="1" lang="es-AR" sz="4000" spc="-1" strike="noStrike">
                <a:solidFill>
                  <a:srgbClr val="000000"/>
                </a:solidFill>
                <a:latin typeface="Comic Sans MS"/>
              </a:rPr>
              <a:t>Dr. Wesley Hiler</a:t>
            </a:r>
            <a:br>
              <a:rPr sz="4000"/>
            </a:br>
            <a:r>
              <a:rPr b="1" i="1" lang="es-AR" sz="4000" spc="-1" strike="noStrike">
                <a:solidFill>
                  <a:srgbClr val="000000"/>
                </a:solidFill>
                <a:latin typeface="Comic Sans MS"/>
              </a:rPr>
              <a:t>Dr. Richard Pa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Haga preguntas a la clase durante las conferencias para estimular la curio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) Utilice preguntas gu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3) Dé una prueba corta de cinco minutos al comienzo de cada c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4) Utilice visuales grá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5) Enseñe principios del pensamiento crítico a la vez en que enseña la ma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6) Fomente que sus estudiantes se conozcan unos a ot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7) Coloque los nombres de los estudiantes en tarjetas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llame a todos los estudiantes, no sólo a los volunt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8) Fomente el pensamiento independ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9) Fomente el escuchar con ate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0) Hable menos para que los estudiantes piense m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1) Sea un mode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2) Utilice el método socrático para hacer pregu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3) Fomente la colabor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4) Trate de usar la enseñanza en pirá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5) Pida que sus estudiantes redacten ejercicios de pre-escri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6) Asigne tareas escritas que requieran pensa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independ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7) Pida que los estudiantes evalúen los trabajos de los dem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8) Utilice cuaderno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19) Organice deb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0) Pida a sus estudiantes que escriban diálogos Construc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1) Pida que los estudiantes expliquen su tarea y su propós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2) Fomente que el estudiante determine el siguiente pa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3) Pida que los estudiantes documenten su pro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4) Divida proyectos en partes más pequeñ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5) Fomente el descubr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6) Fomente la auto evalu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27) Enseñe aplicaciones úti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0:31:04Z</dcterms:created>
  <dc:creator>notebook</dc:creator>
  <dc:description/>
  <dc:language>en-US</dc:language>
  <cp:lastModifiedBy>mcalvarez</cp:lastModifiedBy>
  <dcterms:modified xsi:type="dcterms:W3CDTF">2011-09-12T22:58:53Z</dcterms:modified>
  <cp:revision>8</cp:revision>
  <dc:subject/>
  <dc:title>Ideas prácticas para promover el aprendizaje activo y cooperativo: 27 maneras prácticas para mejorar la instrucción por: Dr. Wesley Hiler Dr. Richard Paul</dc:title>
</cp:coreProperties>
</file>